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2E7AC-1A6A-4DB2-90A4-D6D79E136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BECCC-7995-486F-8A6C-4A576BF19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A544F-0532-4072-AD57-96AAE6A76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4F884-B9AC-4C32-B9BF-AC4454D5A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D7146-1A81-4EA5-B6C9-A33281ABB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E2C19-DD8D-4AC7-85F4-4B3D008CC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4FB73-7659-404F-801B-29E13DA69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08669-C1F7-4B22-89F1-093EF73B0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30CDD-4D9F-44EC-BA1E-312AD1B49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1FC84-7227-4AAA-985E-39D2531E8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2D5E7-00FE-4D26-A8FD-246417939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38CB-3748-4BC5-8488-0474AB9ED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9F9C0-4C6C-4C6F-A972-C4039A78D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0723E-42E0-424C-B5F0-63301EDD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E0773-5443-4A98-8485-464BA7223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EAF31-D91C-430E-9D10-B39A52297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0CCDA-779F-4029-A9A5-29C8FA2B5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A4FF-ADC4-4CDB-AA8E-0AFB4B13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D836-2A9F-4E6C-8B75-7A41AD4BB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DDDB-1676-4430-B73A-1B27B47F4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707D0-0ABD-4D8C-A3B1-DB7ABB3FF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DDC4-49C9-4822-80C8-44D52050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61F6-8303-44BE-BA34-0C6081E7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DD0C-A512-4CA0-B080-158321E88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570C-D471-43A8-AB9F-3E8370A1FF7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D6AA-9618-42BA-9BC6-8578724ED242}"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Lesson</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s. Cmapanelli</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Troubleshooting Your PC</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r printing problems check the default print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heck out the Help and Support icon on the Start Men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Explor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1</a:t>
            </a:r>
            <a:r>
              <a:rPr b="0" i="1" lang="en-US" sz="2400" spc="-1" strike="noStrike">
                <a:solidFill>
                  <a:srgbClr val="212164"/>
                </a:solidFill>
                <a:latin typeface="Arial"/>
              </a:rPr>
              <a:t> - The place to check to see if the radio is on.</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2</a:t>
            </a:r>
            <a:r>
              <a:rPr b="0" i="1" lang="en-US" sz="2400" spc="-1" strike="noStrike">
                <a:solidFill>
                  <a:srgbClr val="212164"/>
                </a:solidFill>
                <a:latin typeface="Arial"/>
              </a:rPr>
              <a:t> - How to check which printer is set as the default print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3</a:t>
            </a:r>
            <a:r>
              <a:rPr b="0" i="1" lang="en-US" sz="2400" spc="-1" strike="noStrike">
                <a:solidFill>
                  <a:srgbClr val="212164"/>
                </a:solidFill>
                <a:latin typeface="Arial"/>
              </a:rPr>
              <a:t> - Write out the clicks to find the Device Manag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4</a:t>
            </a:r>
            <a:r>
              <a:rPr b="0" i="1" lang="en-US" sz="2400" spc="-1" strike="noStrike">
                <a:solidFill>
                  <a:srgbClr val="212164"/>
                </a:solidFill>
                <a:latin typeface="Arial"/>
              </a:rPr>
              <a:t> - The colors in the Display are all messed up. Where might I go to troubleshoot?</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5</a:t>
            </a:r>
            <a:r>
              <a:rPr b="0" i="1" lang="en-US" sz="2400" spc="-1" strike="noStrike">
                <a:solidFill>
                  <a:srgbClr val="212164"/>
                </a:solidFill>
                <a:latin typeface="Arial"/>
              </a:rPr>
              <a:t> - Find out what the Disk Defragmenter does. Don't run it, just locate it.</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with your peers one thing you learned today that you didn’t know before.</a:t>
            </a:r>
            <a:endParaRPr b="0" lang="en-US" sz="3200" spc="-1" strike="noStrike">
              <a:solidFill>
                <a:srgbClr val="212164"/>
              </a:solidFill>
              <a:latin typeface="Arial"/>
            </a:endParaRPr>
          </a:p>
        </p:txBody>
      </p:sp>
      <p:sp>
        <p:nvSpPr>
          <p:cNvPr id="117"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9"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0"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most common pc issues we have to troubleshoot?</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determine if it is a hardware or a software issue?</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troubleshoot the most common issue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can save a lot of time if we can fix minor issues in the classroom instead of having to send the laptop to Eddie or Ms. Burwell. Today we’re going to explore some steps we might take to fix simple problem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r teachers have been telling me that one of the most demanding challenges they face when integrating technology into the classroom is troubleshooting when a student has an issue with their device."</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t is important for Isquad members to be able to troubleshoot minor issues in the classroom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rst, ask the student what the problem is. Very often, they are vague, saying only that "My laptop is messed up."</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sk for clarification, "What are you trying to do and what is your computer do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the student demonstrate what they have tried to do.</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to see if any applications are running. Close everyth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Next, try to replicate the task, that is, Try to do it yourself. If you cannot do it, attempt to figure out what the problem is.</a:t>
            </a:r>
            <a:br>
              <a:rPr sz="2000"/>
            </a:br>
            <a:r>
              <a:rPr b="0" lang="en-US" sz="2000" spc="-1" strike="noStrike">
                <a:solidFill>
                  <a:srgbClr val="212164"/>
                </a:solidFill>
                <a:latin typeface="Arial"/>
              </a:rPr>
              <a: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 need to determine if it is a hardware issue, which may require sending it to the depot, or if it is a software issue, which you may be able to resolve yourself.</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st times you should restart the machine. Very often this fixes the problem.</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C sluggish? Try this: make sure there is no animated background on the desktop.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in applications like MS Word or Inspiration are software issues. If restarting doesn't help, try the Help menus to resolve them.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that occur with the display, voulme, disk drive or keyboard are types of hardware issues. For these let’s explore the  Device Manager.</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or problems connecting to the Internet, run Intel Proset. Check that the radio is on.</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or hardware issues: access the device manager.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f the device is working, and you still can't resolve the issue - send it to the Depot.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f the device is not working - send it to the Depot.</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e</cp:lastModifiedBy>
  <dcterms:modified xsi:type="dcterms:W3CDTF">2008-03-04T19:19:24Z</dcterms:modified>
  <cp:revision>5</cp:revision>
  <dc:subject/>
  <dc:title>Workshop Title</dc:title>
</cp:coreProperties>
</file>